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5124-A15C-4483-B27C-399486CF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4115-F19C-43BC-A07C-164042BF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754-DE05-4A52-97A1-8FC2DEB5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7935-5993-4AC9-9873-410A234D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4965-8739-4F20-B1E0-299BF1CB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2BA9-6E02-4ABF-B01F-21C59DF9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062C-8AFE-4F73-A189-29CB6D0D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0B9E-FD98-4462-8479-E2242F4F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3C3F-45B5-401F-8ED3-CBF2C988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3BBB-247A-4AE6-8842-BF6078FF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9007-2B38-4730-93D0-A9260315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CEC5-C551-494B-A7DC-4D63FD88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F72A-B094-4E5A-AC0D-18B7F080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348B-5161-447C-9583-4CD41CDB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98AB-5096-4D48-BE6A-0E15D960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6E3E-C526-4325-8BA9-324C2070B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F68A-6560-4A43-99DF-633C112E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C191-156E-43CD-BFD3-DE97EE8A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DCCF-13CC-40F0-A6A1-7EF808B6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D40B-BD85-491E-9649-05B4E496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33AB-9EED-4CD0-9659-C1FE3FDC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D928-AA01-4807-854A-DA2B144D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4761-CA91-4AB4-B73F-3FDE0C35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B2FB-D8FB-489E-BA77-19A9F60B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4a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3d4a1c"/>
              </a:gs>
              <a:gs pos="100000">
                <a:srgbClr val="66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cc99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B724-FB39-4E3F-B629-046DA1A4E362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4a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712F-6C32-404D-8232-B8DD612C079E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3d4a1c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4a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allery Walk Day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8960" y="3733920"/>
            <a:ext cx="6553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lease take a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pink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notes sheet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Did anyone drop of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te work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on my desk with no name on Wed/Thurs? Tell me if it was yours!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Have your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Info Area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contribution to the group project ready. Decide as a group which poster color you want!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29200" y="836640"/>
            <a:ext cx="405144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4a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uesday, Jan. 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kinny” schedul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5</a:t>
            </a:r>
            <a:r>
              <a:rPr b="0" lang="en-US" sz="2800" spc="-1" strike="noStrike" baseline="30000">
                <a:solidFill>
                  <a:srgbClr val="f8f8f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hour: 10-10:50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6</a:t>
            </a:r>
            <a:r>
              <a:rPr b="0" lang="en-US" sz="2800" spc="-1" strike="noStrike" baseline="30000">
                <a:solidFill>
                  <a:srgbClr val="f8f8f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hour: 12:30-1:20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IF NEEDED – finish practice seminar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4a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uesday, Jan. 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Work time on biographies and char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ICKET IN THE DOOR for the final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Not finished on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y of the final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Completing on your own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No participation in the seminar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Still must write the reflection at 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e end of the period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Arial"/>
              </a:rPr>
              <a:t>Maximum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grade you can 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achieve is a D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867280" y="342900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4a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 have 10 minutes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Using a large piece of poster paper,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ssemble your project area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Make sure the right info is near the right picture, etc…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Don’t forget the introduction info! (names, countries involved, dates, etc…)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each your other groupmates about your question/topic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ill out your section on the Notes Sheet together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with basic ideas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4a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und 1 of the Gallery Wal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Half of your group will remain at the presentation area to teach about your region/country.  Help them feel ready to represent your group!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14600" y="4038480"/>
            <a:ext cx="44766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4a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und 1 of the Gallery Wal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 other ½ of your group can wander around the Gallery, learning and taking notes on the other regions/countries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Read/look at the information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on the posters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Ask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the group “teachers” questions! It is part of your individual grade to </a:t>
            </a:r>
            <a:r>
              <a:rPr b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try your best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in teaching your classmates some things about your region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Should spend about </a:t>
            </a:r>
            <a:r>
              <a:rPr b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5-7 minutes at each region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5 minutes for Round 1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4a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und 2 of the Gallery Wal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Meet back up with your group at your presentation area!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Discuss for 1-2 minutes how the round went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WITCH!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 Round 1 “teachers” now wander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 Round 1 “wanderers” now help represent your region/country!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4a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und 2 of the Gallery Wal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 other ½ of your group can wander around the Gallery, learning and taking notes on the other regions/countries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Read/look at the information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on the posters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Ask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the group “teachers” questions! It is part of your individual grade to </a:t>
            </a:r>
            <a:r>
              <a:rPr b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try your best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in teaching your classmates some things about your region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Should spend about </a:t>
            </a:r>
            <a:r>
              <a:rPr b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5-7 minutes at each region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5 minutes for Round 2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4a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oup Dynamics Eval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80720" y="1523880"/>
            <a:ext cx="6629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Fill out the evaluation on the BACK of your </a:t>
            </a:r>
            <a:r>
              <a:rPr b="1" lang="en-US" sz="26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 project packet.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lvl="1" marL="972720" indent="-528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List your name and group member names.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lvl="1" marL="972720" indent="-528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Score of 1-4 for each question.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4 = Yes, absolutely!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3 = Yes, mostly.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2 = No, not really.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1 = No, not at all.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Turn in your entire </a:t>
            </a:r>
            <a:r>
              <a:rPr b="1" lang="en-US" sz="26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 packet AND your Notes Sheet when finished.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08" name="" descr="[imperialism.gif]"/>
          <p:cNvPicPr/>
          <p:nvPr/>
        </p:nvPicPr>
        <p:blipFill>
          <a:blip r:embed="rId1"/>
          <a:stretch/>
        </p:blipFill>
        <p:spPr>
          <a:xfrm>
            <a:off x="152280" y="35053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4a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2975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mester One Final SEMINAR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haracter chart and biographies!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NOT ADAM SMITH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Who made the biggest impact?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= winner of the TIME Person of the Semester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19920" y="2590920"/>
            <a:ext cx="1780920" cy="2266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638680" y="2743200"/>
            <a:ext cx="2743200" cy="1981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715000" y="2666880"/>
            <a:ext cx="2590920" cy="1905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4a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2975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mester One Final SEMINAR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Review seminar guidelines and rubric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minar etiquette -- PRACTICE seminar…?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38280" y="361944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23:24:01Z</dcterms:created>
  <dc:creator>MCPASD</dc:creator>
  <dc:description/>
  <dc:language>en-US</dc:language>
  <cp:lastModifiedBy>MCPASD</cp:lastModifiedBy>
  <dcterms:modified xsi:type="dcterms:W3CDTF">2012-01-13T19:12:45Z</dcterms:modified>
  <cp:revision>16</cp:revision>
  <dc:subject/>
  <dc:title>Gallery Walk Day!</dc:title>
</cp:coreProperties>
</file>